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9C3C-F5CE-41E0-9FFD-2A62B27A1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1464-B588-4A95-A21C-B41D9E85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6DA9-26A8-4476-9993-E7A174F3B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0B15-EC47-49A2-A294-1B4E4FE86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5C0E-9362-4732-8246-77D25593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868B-9114-4752-A4BF-06E42F16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CA95-9720-4DC7-BF13-18322BA7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CD90-8D3B-4997-87E7-4DE33030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8CDB-6DDF-4908-AB76-E859E9B3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D2A9-AEC3-48E9-93EA-B19713E6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BE00-4071-4EE1-99A9-9F048DE0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5DB0-13B5-45C6-875E-FEC7AECE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5488-7418-4ED5-A5D5-9AC5765C251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us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3840" y="13860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19040" y="211788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4572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064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505908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65560" y="14018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914640" y="1397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t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3392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973600" y="28036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2720" y="37180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59480" y="37004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643640" y="2798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O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54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9520" y="315432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89760" y="2798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Med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2925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167640" y="467820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Hand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15432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068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038120" y="39924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176560" y="56689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089960" y="56689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3760" y="46782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9056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38480" y="498276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8308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83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438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438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0720" y="243828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2362320"/>
            <a:ext cx="6094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920"/>
            <a:ext cx="3200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Core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3623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286000"/>
            <a:ext cx="9907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65760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28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038480" y="190476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05320" y="1219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09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1219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193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914040" y="28195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295280" y="35812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124080"/>
            <a:ext cx="838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76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8672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13760" y="4457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952880"/>
            <a:ext cx="9907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Accept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09480" y="60195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09480" y="61718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0948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609480" y="64767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51560" y="6172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52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71500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479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276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765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828800" y="54100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9625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AI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267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047760" y="36568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895480" y="28954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572000" y="190476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724280" y="190440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8320" y="1676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76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809880" y="35812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80988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105160" y="259056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733920"/>
            <a:ext cx="83844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42670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267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1911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7010280" y="3809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3526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1523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76160" y="15238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523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438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66688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6576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467480" y="38098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619760" y="380988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0481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772400" y="2437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924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24680" y="2437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12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352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7848000" y="472428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50292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48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153280" y="41144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838080"/>
            <a:ext cx="7617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8120" y="9144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962480" y="4838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53341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Make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94360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23888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5029200"/>
            <a:ext cx="8384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876920"/>
            <a:ext cx="7617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724280"/>
            <a:ext cx="60984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481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6095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739152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_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43040" y="61718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7913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200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92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371240" y="624852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523880" y="624816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00 OK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6629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38280" y="647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38280" y="62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629400" y="59432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8769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Busy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876560" y="57142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19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594360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324120" y="518112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28840" y="525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5288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2392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895120" y="5410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95480" y="3200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438280" y="3200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276720" y="4648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0400" y="434304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28600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4382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11430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2004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2666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38680" y="556236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809880" y="6095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209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1240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41911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066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2767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5720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819520" y="4800240"/>
            <a:ext cx="685800" cy="228600"/>
          </a:xfrm>
          <a:prstGeom prst="hexagon">
            <a:avLst>
              <a:gd name="adj" fmla="val 22222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8769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SY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3341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64008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62485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BACK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62040" y="44701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763120" y="99036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0400" y="38088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Media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82880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ILEN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1905120"/>
            <a:ext cx="533160" cy="152280"/>
          </a:xfrm>
          <a:custGeom>
            <a:avLst/>
            <a:gdLst>
              <a:gd name="textAreaLeft" fmla="*/ 0 w 533160"/>
              <a:gd name="textAreaRight" fmla="*/ 533520 w 53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28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809520" y="2209680"/>
            <a:ext cx="838440" cy="15264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0920" y="22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146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2767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05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9051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5146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095880" y="3429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74320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2971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2437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160" y="22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9528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BOT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4876920"/>
            <a:ext cx="8384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20570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809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90476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5812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2286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632412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5029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1008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1055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5716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114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819160" y="434340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43828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40384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5053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666880" y="4114440"/>
            <a:ext cx="1219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236196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572000" y="4724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114440" y="426672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181480" y="48006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3809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4038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867280" y="373356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3276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514240" y="23623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Application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4382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3848040" y="1942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umber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0666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6708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1371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24382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2438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5714640" y="28191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164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552720" y="3276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666840" y="339084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876920"/>
            <a:ext cx="9903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962160" y="32763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0384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3962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904760" y="2819520"/>
            <a:ext cx="20574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5714640" y="48765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d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57146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495320" y="2895120"/>
            <a:ext cx="121932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267080" y="434340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49528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1143000" y="33526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886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jec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5334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4343040"/>
            <a:ext cx="10666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25780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5410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228600" y="1523880"/>
          <a:ext cx="8610480" cy="475272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066680"/>
                <a:gridCol w="1066680"/>
                <a:gridCol w="1219320"/>
                <a:gridCol w="1143000"/>
                <a:gridCol w="106668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SY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ORDER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c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l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INGBACK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GUI Displa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6-08-07T02:22:34Z</dcterms:modified>
  <cp:revision>33</cp:revision>
  <dc:subject/>
  <dc:title>PowerPoint 프레젠테이션</dc:title>
</cp:coreProperties>
</file>